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6AB-250A-4837-9510-1C6B90F3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B52-826E-42B6-BEAD-9419447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489-B42D-47C4-BA9B-4A3618EF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483-CC0A-4496-9D21-AAA9A1B7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9C09-D18C-4813-8C49-47AF31E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1C6-CDAB-438F-B7A7-2740AD32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1911-4A66-47C8-84B9-BB1A786F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5621-E515-4708-AF6A-0F0DFFC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4539-C7FC-4D44-9130-F711E18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4C6D-A3FE-4630-8030-FCE92B5D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6470-E59C-4B87-97B0-C671823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B7C-42AF-40BC-B885-3025D8DF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4AF6-E6A1-4760-AC14-1679FB2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2713-027A-418E-9607-80AF447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9CE7-F549-4EBC-A12E-670279AF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8F0-E730-4825-9BBD-8F0501E5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0C8-AC13-49B1-A12B-3B023AF7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B4E-BD7C-471D-BEC4-2F11639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6F5-865F-4DF2-AFB0-7AAC0B7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818-9A04-464E-92FF-FA05833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BE0-B055-4429-8954-9C054E7E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8E2-869F-4AFC-A138-D17A3EC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948-541B-452C-8B73-E1D7CEA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BD1-E4A2-4055-AFB9-E3C3B4D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F252-4E5B-4E81-B797-EC22DB82569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79DF-63DE-4059-BA51-886AA628E12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characteristics of experimental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the principles of sampl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major types of experimental designs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a 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remember methods of collecting dat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some methods of collec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Music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364500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experimental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cause-effect relation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independent and dependent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id experi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English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should be included in a research stud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Exercise Ma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50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experimental desig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 Pretest-posttest Control Group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- Quasi-experiment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- Time series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- Withdrawal Desig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 Bag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5:17Z</dcterms:modified>
  <cp:revision>16</cp:revision>
  <dc:subject/>
  <dc:title>Course: Fundamentals of Research</dc:title>
</cp:coreProperties>
</file>